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2BD2-FF10-49D7-8FE6-AD7AEC965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D76C-2678-4CFD-A947-60DC30FF7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FF7-DEA5-4955-BA01-C6A1CC26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315-2932-4D4D-972A-9539C9E7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66F-D205-4212-8E47-41AF4F24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6512-2522-4CDD-8328-16A9BBBC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2C3-9600-4F6F-92AC-FE887DF6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B7D-A803-4FD8-B9A2-13EF684E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8C4-146E-4F86-8F4E-83BBBC98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C40-1381-43C3-B26F-96CD0AA3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570-8B3D-4F96-B631-2CAC034C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295-83B2-4870-A15E-3F3C790D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F80-F231-4918-AC9E-E7BD274D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D46-5C04-49D2-8DC4-0DE878F4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872F-A08F-40C7-9FF5-EF6D04C90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ran Om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ran O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ran Omar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ran Oma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ran O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205740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8006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2971800" y="3809880"/>
            <a:ext cx="487692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sha tur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uenas  sus tienen una fiesta quieres venir?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anto hente son tu trayendo? Queremos tu venir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guesta: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743200" y="32004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khadija zulfiquar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ra. Tu debería modelo, tu teines cuerpo perfecto, tu son alta!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celoso!!! Tu es model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dam Saleh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ermosa, buena noches !!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¿quieres comer mañan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4572000"/>
            <a:ext cx="52578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espertarse Despertarse !!!  Mi aburrido ! Cuañdo son tu Despertarse?   Nosotras  va la mall 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aces tu queres Venir? Esperamos tu !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666880" y="5181480"/>
            <a:ext cx="518184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ara Yousef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buenos días nora ?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¿Cómo estás?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la giovanna esta  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irritable !! Puedes venir la ciuda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              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Nosotoras Somo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52280" y="3581280"/>
            <a:ext cx="14479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i nombre es Noran Omar. Yo vivo en Astoria. Tengo cotorce años.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engo 2 hermanas. Yo soy de Egipto y Morroc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1143000" y="5029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0" y="5638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09480" y="5715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iovanna Con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12193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Youse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5"/>
          <a:stretch/>
        </p:blipFill>
        <p:spPr>
          <a:xfrm>
            <a:off x="17524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1"/>
          <p:cNvSpPr/>
          <p:nvPr/>
        </p:nvSpPr>
        <p:spPr>
          <a:xfrm>
            <a:off x="182880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hadijaa Zulfiqu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6"/>
          <a:stretch/>
        </p:blipFill>
        <p:spPr>
          <a:xfrm>
            <a:off x="2362320" y="243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7"/>
          <a:stretch/>
        </p:blipFill>
        <p:spPr>
          <a:xfrm>
            <a:off x="23623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8"/>
          <a:stretch/>
        </p:blipFill>
        <p:spPr>
          <a:xfrm>
            <a:off x="0" y="5029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9"/>
          <a:stretch/>
        </p:blipFill>
        <p:spPr>
          <a:xfrm>
            <a:off x="609480" y="5029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10"/>
          <a:stretch/>
        </p:blipFill>
        <p:spPr>
          <a:xfrm>
            <a:off x="24382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11"/>
          <a:stretch/>
        </p:blipFill>
        <p:spPr>
          <a:xfrm>
            <a:off x="-1260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0" y="665316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m Sale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01:23:17Z</dcterms:created>
  <dc:creator>FriscoISD</dc:creator>
  <dc:description/>
  <dc:language>en-US</dc:language>
  <cp:lastModifiedBy>User</cp:lastModifiedBy>
  <dcterms:modified xsi:type="dcterms:W3CDTF">2013-01-02T14:07:43Z</dcterms:modified>
  <cp:revision>111</cp:revision>
  <dc:subject/>
  <dc:title>Profile</dc:title>
</cp:coreProperties>
</file>